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8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214F-654B-47AA-8521-3835DFF0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0745-4153-453E-8F84-2BDF3524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0D89-96D6-4CD6-9A3B-E27E48560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3BEE-4242-472F-8FED-E608D0205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14E6-54D3-4CCB-A628-AB7C0C549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71AF-ECFF-4BD6-A50B-34F5019B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93A4-9D1F-4171-A1CD-F879BC90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66E1-3B99-47CF-81CE-1BE44BCE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933C-B68B-4DD0-85D1-0AB3677A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AAFE-1386-4C11-8EC6-8EEB511D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674B-75AA-4321-AA03-0ADEEC8B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1B31-7AA9-446F-A988-A95AE305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050E-9A86-493C-B732-87C14CBA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399A-A29A-4A7A-8A6E-593040D7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F65B-ACD1-4A5A-A16F-0FFBD8ED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ED64-2603-4BC4-9CEF-1B64034E9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E297-F9CC-4CEE-85FB-2E43130D3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F621-4BC2-466B-AECA-C2326C69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82A5-E5E7-4082-8DCA-97850FE2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79BE-908A-477B-AF94-5B8C8387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F719-2452-40B2-9003-D7984A13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6371-1AAB-4FAD-9858-75D37D66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A451-9815-483A-B9C8-A7FA70AF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9D82-7A94-4FEE-A5D3-A2E9DA52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FC32-A0CD-443E-8580-C3A2148EEB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120816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9E6F-23A0-48DB-8D40-BF102CE331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file:///../../AP%20%20Psych/Powerpoint/Mod%2026+27.ppt#Slide 9" TargetMode="External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520" y="454680"/>
            <a:ext cx="579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CP PSYCHOLOGY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2057400"/>
            <a:ext cx="81788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CHAPTER 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 Black"/>
              </a:rPr>
              <a:t>Memory and Though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 Black"/>
              </a:rPr>
              <a:t>Section 3Q1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Mr. Freccia, NH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lencoe Publish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76520" y="454680"/>
            <a:ext cx="579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CP PSYCHOLOGY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8" name=""/>
          <p:cNvSpPr/>
          <p:nvPr/>
        </p:nvSpPr>
        <p:spPr>
          <a:xfrm>
            <a:off x="736560" y="2057400"/>
            <a:ext cx="81788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CHAPTER 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 Black"/>
              </a:rPr>
              <a:t>Memory and Though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 Black"/>
              </a:rPr>
              <a:t>Section 3Q2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he Famous Mr. Freccia, NH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lencoe Publish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95280" y="3808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trieving Inform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Q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066680" y="1905120"/>
            <a:ext cx="807732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Times New Roman"/>
              </a:rPr>
              <a:t>Retrieval</a:t>
            </a: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process of obtaining information stored in mem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an memory is extraordinarily efficient, and  extremely organiz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1932"/>
                </a:solidFill>
                <a:uFillTx/>
                <a:latin typeface="Times New Roman"/>
              </a:rPr>
              <a:t>Methods of Retrieval inclu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00193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Times New Roman"/>
              </a:rPr>
              <a:t>Recognition</a:t>
            </a: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ability to identify an object, idea or situation as familiar or not (file syst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gnition abilities suggest much more is stored in memory than one might believe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219320" y="2286000"/>
            <a:ext cx="7850160" cy="32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1932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Times New Roman"/>
              </a:rPr>
              <a:t>Recall</a:t>
            </a: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ability to reconstruct previously learned mate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#1:  Confabul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Filling in memory with material that makes sense but may be not true (often without awarenes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tle misinformation may help people misremember (used by cops and lawyers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95280" y="3808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trieving Inform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Q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3808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trieving Inform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Q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09480" y="2441520"/>
            <a:ext cx="800100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call Problem #2:  False Memories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lacing misleading information into one's memory of an event without awar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apists may promote false memories through hypnosis, dream analysis or imagination exerc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95280" y="3808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trieving Inform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Q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143000" y="2133720"/>
            <a:ext cx="5334120" cy="38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call “Bonus”:  Eidetic Memory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Photographic)</a:t>
            </a:r>
            <a:r>
              <a:rPr b="1" lang="en-US" sz="28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ility to recall visual details after only a short expo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hotographic Memory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seen in about 5% of children but rarely in ad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bd05131_" descr=""/>
          <p:cNvPicPr/>
          <p:nvPr/>
        </p:nvPicPr>
        <p:blipFill>
          <a:blip r:embed="rId2"/>
          <a:stretch/>
        </p:blipFill>
        <p:spPr>
          <a:xfrm>
            <a:off x="6681960" y="2438280"/>
            <a:ext cx="2462040" cy="3124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3808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trieving Inform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Q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447920" y="2133720"/>
            <a:ext cx="769608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99"/>
              </a:spcBef>
              <a:buClr>
                <a:srgbClr val="001932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Relearn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previously learned material,  will be quicker than the original le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1932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Forgetting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ability to retrieve information once stored in long-term mem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itation, hypnosis, brain stimulation may allow recovery of forgotten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95280" y="3808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trieving Inform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Q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4479480" y="308916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66ff"/>
                </a:solidFill>
                <a:uFillTx/>
                <a:latin typeface="Times New Roman"/>
                <a:hlinkClick r:id="rId2"/>
              </a:rPr>
              <a:t>Forget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146240" y="3054240"/>
            <a:ext cx="7961400" cy="3805560"/>
            <a:chOff x="1146240" y="3054240"/>
            <a:chExt cx="7961400" cy="3805560"/>
          </a:xfrm>
        </p:grpSpPr>
        <p:sp>
          <p:nvSpPr>
            <p:cNvPr id="280" name=""/>
            <p:cNvSpPr/>
            <p:nvPr/>
          </p:nvSpPr>
          <p:spPr>
            <a:xfrm>
              <a:off x="3807360" y="3054240"/>
              <a:ext cx="5054040" cy="294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175280" y="3054240"/>
              <a:ext cx="0" cy="294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90960" y="3054240"/>
              <a:ext cx="0" cy="294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58880" y="3054240"/>
              <a:ext cx="0" cy="294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2480" y="3054240"/>
              <a:ext cx="0" cy="294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6440" y="3054240"/>
              <a:ext cx="0" cy="294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69400" y="3054240"/>
              <a:ext cx="0" cy="294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96320" y="3054240"/>
              <a:ext cx="0" cy="294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23600" y="3054240"/>
              <a:ext cx="0" cy="294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942320" y="3054240"/>
              <a:ext cx="0" cy="294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09880" y="605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95640" y="605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78520" y="605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62120" y="605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542120" y="605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101560" y="60555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07320" y="60555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836400" y="60555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756920" y="60555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673840" y="60555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07360" y="3439800"/>
              <a:ext cx="505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07360" y="3813480"/>
              <a:ext cx="505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07360" y="4249800"/>
              <a:ext cx="505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07360" y="4685760"/>
              <a:ext cx="505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07360" y="5122080"/>
              <a:ext cx="505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07360" y="5558400"/>
              <a:ext cx="505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81400" y="5423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281400" y="50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281400" y="4552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281400" y="41018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81400" y="36784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281400" y="33044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33680" y="5860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99520" y="3427920"/>
              <a:ext cx="0" cy="1246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99520" y="4674240"/>
              <a:ext cx="459000" cy="311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358880" y="4986000"/>
              <a:ext cx="4318560" cy="124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72040" y="6491520"/>
              <a:ext cx="417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ime in days since learning word li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46240" y="3069720"/>
              <a:ext cx="2027880" cy="17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Percentage of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word list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retained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when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relearning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066680" y="1981080"/>
            <a:ext cx="8077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bbinghaus forgetting curve” over 30 days – forgetting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itially rapi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n levels off with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3808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trieving Inform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Q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066680" y="1981080"/>
            <a:ext cx="8077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1021680" y="2743200"/>
            <a:ext cx="8093520" cy="4276440"/>
            <a:chOff x="1021680" y="2743200"/>
            <a:chExt cx="8093520" cy="4276440"/>
          </a:xfrm>
        </p:grpSpPr>
        <p:sp>
          <p:nvSpPr>
            <p:cNvPr id="325" name=""/>
            <p:cNvSpPr/>
            <p:nvPr/>
          </p:nvSpPr>
          <p:spPr>
            <a:xfrm>
              <a:off x="3437280" y="2743200"/>
              <a:ext cx="5677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437280" y="2743200"/>
              <a:ext cx="0" cy="3518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437280" y="6261840"/>
              <a:ext cx="5677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37280" y="4307040"/>
              <a:ext cx="5677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437280" y="4632840"/>
              <a:ext cx="5677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437280" y="4958640"/>
              <a:ext cx="5677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437280" y="5284440"/>
              <a:ext cx="5677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37280" y="5610240"/>
              <a:ext cx="5677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37280" y="5936040"/>
              <a:ext cx="5677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37280" y="3329640"/>
              <a:ext cx="5677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437280" y="3655080"/>
              <a:ext cx="5677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437280" y="3981240"/>
              <a:ext cx="5677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437280" y="3003840"/>
              <a:ext cx="5677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510720" y="2743200"/>
              <a:ext cx="0" cy="3518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986000" y="2743200"/>
              <a:ext cx="0" cy="3518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91920" y="2743200"/>
              <a:ext cx="0" cy="3518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198200" y="2743200"/>
              <a:ext cx="0" cy="3518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672760" y="2743200"/>
              <a:ext cx="0" cy="3518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395600" y="2743200"/>
              <a:ext cx="0" cy="3518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953160" y="2743200"/>
              <a:ext cx="0" cy="3518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732120" y="2743200"/>
              <a:ext cx="0" cy="3518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437280" y="3199320"/>
              <a:ext cx="294480" cy="1759320"/>
            </a:xfrm>
            <a:prstGeom prst="line">
              <a:avLst/>
            </a:prstGeom>
            <a:ln w="5724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3732120" y="4828320"/>
              <a:ext cx="221040" cy="130320"/>
            </a:xfrm>
            <a:prstGeom prst="line">
              <a:avLst/>
            </a:prstGeom>
            <a:ln w="5724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953160" y="4828320"/>
              <a:ext cx="442440" cy="130320"/>
            </a:xfrm>
            <a:prstGeom prst="line">
              <a:avLst/>
            </a:prstGeom>
            <a:ln w="5724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4395600" y="4698000"/>
              <a:ext cx="590040" cy="260640"/>
            </a:xfrm>
            <a:prstGeom prst="line">
              <a:avLst/>
            </a:prstGeom>
            <a:ln w="5724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986000" y="4698000"/>
              <a:ext cx="1105920" cy="325440"/>
            </a:xfrm>
            <a:prstGeom prst="line">
              <a:avLst/>
            </a:prstGeom>
            <a:ln w="5724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91920" y="5023800"/>
              <a:ext cx="2580840" cy="130320"/>
            </a:xfrm>
            <a:prstGeom prst="line">
              <a:avLst/>
            </a:prstGeom>
            <a:ln w="5724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658320" y="2873160"/>
              <a:ext cx="368280" cy="169416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7000" y="4502520"/>
              <a:ext cx="3023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939120" y="3425760"/>
              <a:ext cx="1235160" cy="642600"/>
            </a:xfrm>
            <a:prstGeom prst="rect">
              <a:avLst/>
            </a:prstGeom>
            <a:solidFill>
              <a:srgbClr val="218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ten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rops,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28800" y="4142520"/>
              <a:ext cx="1718280" cy="368280"/>
            </a:xfrm>
            <a:prstGeom prst="rect">
              <a:avLst/>
            </a:prstGeom>
            <a:solidFill>
              <a:srgbClr val="218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hen levels of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82480" y="6248160"/>
              <a:ext cx="57632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  3  5    9½    14½               25               35½                    49½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ime in years after completion of Spanish cour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701800" y="2779560"/>
              <a:ext cx="698760" cy="42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5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5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8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5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5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5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5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5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5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5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5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21680" y="2903040"/>
              <a:ext cx="1690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ercentage o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rigin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ocabula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tain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1143000" y="1981080"/>
            <a:ext cx="7696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orgetting curve for Spanish learned in scho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95280" y="3808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trieving Inform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Q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1066680" y="1981080"/>
            <a:ext cx="8077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990720" y="1936800"/>
            <a:ext cx="792468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active Interferen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Earlier memory blocks later memory from being remembe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troactive Interferen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Later memory blocks earlier memory from being remembe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get confused between our old/new address/phone #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rning additional langu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95280" y="3808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trieving Inform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Q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066680" y="1981080"/>
            <a:ext cx="8077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1219320" y="1981080"/>
            <a:ext cx="7924680" cy="4616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0"/>
            <a:ext cx="52578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mory and Thou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“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formation Processing”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3Q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219320" y="1981080"/>
            <a:ext cx="792468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1b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Memory: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istence of learning over time through the storage and retrieval of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Processing involves three steps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Input, Central Processing,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Times New Roman"/>
              </a:rPr>
              <a:t>Input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information received by the brain from the sen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Times New Roman"/>
              </a:rPr>
              <a:t>Central Processing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toring (memory) and sorting (thoughts)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Times New Roman"/>
              </a:rPr>
              <a:t>Output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ideas and actions that result from processing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bd00146_" descr=""/>
          <p:cNvPicPr/>
          <p:nvPr/>
        </p:nvPicPr>
        <p:blipFill>
          <a:blip r:embed="rId2"/>
          <a:stretch/>
        </p:blipFill>
        <p:spPr>
          <a:xfrm>
            <a:off x="1066680" y="0"/>
            <a:ext cx="1524240" cy="1511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95280" y="3808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trieving Inform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Q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1066680" y="1981080"/>
            <a:ext cx="8077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143000" y="1905120"/>
            <a:ext cx="800100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Repression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: Subconsciously blocking memories of embarrassing/frightening experienc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1932"/>
                </a:solidFill>
                <a:uFillTx/>
                <a:latin typeface="Times New Roman"/>
              </a:rPr>
              <a:t>Methods of Improving Memory</a:t>
            </a:r>
            <a:r>
              <a:rPr b="0" lang="en-US" sz="3000" spc="-1" strike="noStrike">
                <a:solidFill>
                  <a:srgbClr val="001932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ased on organization and “chunking” informa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eaningfulness, lack of interference, and degree of original learning influence retrieva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Mnemonic Device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: Technique of using associations to memorize informa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520" y="454680"/>
            <a:ext cx="579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CP PSYCHOLOGY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2" name=""/>
          <p:cNvSpPr/>
          <p:nvPr/>
        </p:nvSpPr>
        <p:spPr>
          <a:xfrm>
            <a:off x="380880" y="2057400"/>
            <a:ext cx="81788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CHAPTER 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 Black"/>
              </a:rPr>
              <a:t>Memory and Though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 Black"/>
              </a:rPr>
              <a:t>Section 3Q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Mr. Freccia, NH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lencoe Publish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95280" y="3808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ocessing Inform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Q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066680" y="1981080"/>
            <a:ext cx="8077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43000" y="2057400"/>
            <a:ext cx="7543800" cy="23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Central Processing of Inform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75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Thinking, Problem Solv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Creativity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nstrate ability to process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0" name="BS00559_" descr=""/>
          <p:cNvPicPr/>
          <p:nvPr/>
        </p:nvPicPr>
        <p:blipFill>
          <a:blip r:embed="rId2"/>
          <a:stretch/>
        </p:blipFill>
        <p:spPr>
          <a:xfrm>
            <a:off x="3200400" y="4648320"/>
            <a:ext cx="3352680" cy="1901880"/>
          </a:xfrm>
          <a:prstGeom prst="rect">
            <a:avLst/>
          </a:prstGeom>
          <a:ln w="0">
            <a:noFill/>
          </a:ln>
        </p:spPr>
      </p:pic>
      <p:pic>
        <p:nvPicPr>
          <p:cNvPr id="391" name="bd06210_" descr=""/>
          <p:cNvPicPr/>
          <p:nvPr/>
        </p:nvPicPr>
        <p:blipFill>
          <a:blip r:embed="rId3"/>
          <a:stretch/>
        </p:blipFill>
        <p:spPr>
          <a:xfrm>
            <a:off x="7086600" y="4876920"/>
            <a:ext cx="1839960" cy="1387440"/>
          </a:xfrm>
          <a:prstGeom prst="rect">
            <a:avLst/>
          </a:prstGeom>
          <a:ln w="0">
            <a:noFill/>
          </a:ln>
        </p:spPr>
      </p:pic>
      <p:pic>
        <p:nvPicPr>
          <p:cNvPr id="392" name="bd06385_" descr=""/>
          <p:cNvPicPr/>
          <p:nvPr/>
        </p:nvPicPr>
        <p:blipFill>
          <a:blip r:embed="rId4"/>
          <a:stretch/>
        </p:blipFill>
        <p:spPr>
          <a:xfrm>
            <a:off x="1219320" y="4648320"/>
            <a:ext cx="1298520" cy="1823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3808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ocessing Inform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Q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1066680" y="1981080"/>
            <a:ext cx="8077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990720" y="1981080"/>
            <a:ext cx="8153280" cy="47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umans use four primary devices or “Units of Thought” to process 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</a:rPr>
              <a:t>Image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ental representation of a specific event or object (non-precis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</a:rPr>
              <a:t>Symbol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 sound or design that represents an object or quality (language, writing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</a:rPr>
              <a:t>Concept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 label for a class of objects/events that share common attributes (liqui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1932"/>
                </a:solidFill>
                <a:latin typeface="Times New Roman"/>
              </a:rPr>
              <a:t>Rule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 statement of the relationship between two or more concepts (gravit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99ffcc"/>
                </a:solidFill>
                <a:latin typeface="Times New Roman"/>
              </a:rPr>
              <a:t>Images, symbols, concepts and ru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re the building blocks of mental acti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295280" y="3808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ocessing Inform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Q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1066680" y="1981080"/>
            <a:ext cx="8077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90720" y="1905120"/>
            <a:ext cx="8153280" cy="36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Kinds of thinking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ople think primarily in three ways: 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directed, non-directed, and metacogn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Times New Roman"/>
              </a:rPr>
              <a:t>Directed Thinking</a:t>
            </a: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ystematic, logical, goal-directed thou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Times New Roman"/>
              </a:rPr>
              <a:t>Non-directed Thinking</a:t>
            </a: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ree flow of images and ideas with no particular go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Times New Roman"/>
              </a:rPr>
              <a:t>Metacognition</a:t>
            </a: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inking about thinking (cognitiv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5" name="bd07155_" descr=""/>
          <p:cNvPicPr/>
          <p:nvPr/>
        </p:nvPicPr>
        <p:blipFill>
          <a:blip r:embed="rId2"/>
          <a:stretch/>
        </p:blipFill>
        <p:spPr>
          <a:xfrm>
            <a:off x="7848720" y="5486400"/>
            <a:ext cx="1171440" cy="1295280"/>
          </a:xfrm>
          <a:prstGeom prst="rect">
            <a:avLst/>
          </a:prstGeom>
          <a:ln w="0">
            <a:noFill/>
          </a:ln>
        </p:spPr>
      </p:pic>
      <p:pic>
        <p:nvPicPr>
          <p:cNvPr id="406" name="bd06214_" descr=""/>
          <p:cNvPicPr/>
          <p:nvPr/>
        </p:nvPicPr>
        <p:blipFill>
          <a:blip r:embed="rId3"/>
          <a:stretch/>
        </p:blipFill>
        <p:spPr>
          <a:xfrm>
            <a:off x="1219320" y="5638680"/>
            <a:ext cx="992160" cy="10670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95280" y="3808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ocessing Inform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Q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1066680" y="1981080"/>
            <a:ext cx="8077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990720" y="1905120"/>
            <a:ext cx="670536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Problem Solv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the main purpose of directed thinking and depends 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trategies: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down process (step by step), work backward, compare two possibilities – decisions based on past res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ff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t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abitual strategies or patterns of problem solving based on exper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ff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igidity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hen a “set” interferes with problem solving (can’t think outside the box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3" name="dd01627_" descr=""/>
          <p:cNvPicPr/>
          <p:nvPr/>
        </p:nvPicPr>
        <p:blipFill>
          <a:blip r:embed="rId2"/>
          <a:stretch/>
        </p:blipFill>
        <p:spPr>
          <a:xfrm>
            <a:off x="7543800" y="2133720"/>
            <a:ext cx="452520" cy="1371600"/>
          </a:xfrm>
          <a:prstGeom prst="rect">
            <a:avLst/>
          </a:prstGeom>
          <a:ln w="0">
            <a:noFill/>
          </a:ln>
        </p:spPr>
      </p:pic>
      <p:pic>
        <p:nvPicPr>
          <p:cNvPr id="414" name="bd06033_" descr=""/>
          <p:cNvPicPr/>
          <p:nvPr/>
        </p:nvPicPr>
        <p:blipFill>
          <a:blip r:embed="rId3"/>
          <a:stretch/>
        </p:blipFill>
        <p:spPr>
          <a:xfrm>
            <a:off x="7315200" y="4546440"/>
            <a:ext cx="1527120" cy="2311560"/>
          </a:xfrm>
          <a:prstGeom prst="rect">
            <a:avLst/>
          </a:prstGeom>
          <a:ln w="0">
            <a:noFill/>
          </a:ln>
        </p:spPr>
      </p:pic>
      <p:pic>
        <p:nvPicPr>
          <p:cNvPr id="415" name="SY01265_" descr=""/>
          <p:cNvPicPr/>
          <p:nvPr/>
        </p:nvPicPr>
        <p:blipFill>
          <a:blip r:embed="rId4"/>
          <a:stretch/>
        </p:blipFill>
        <p:spPr>
          <a:xfrm>
            <a:off x="8388360" y="2133720"/>
            <a:ext cx="755640" cy="1600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295280" y="3808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ocessing Inform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Q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990720" y="1949400"/>
            <a:ext cx="6705360" cy="37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reativity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sing information or abilities in a new and meaningful 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use and levels of creativity remain a mystery to psycholog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rtain characteristics are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lexibility, recombination, and insig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9" name="bd06033_" descr=""/>
          <p:cNvPicPr/>
          <p:nvPr/>
        </p:nvPicPr>
        <p:blipFill>
          <a:blip r:embed="rId2"/>
          <a:stretch/>
        </p:blipFill>
        <p:spPr>
          <a:xfrm>
            <a:off x="7315200" y="4546440"/>
            <a:ext cx="1527120" cy="2311560"/>
          </a:xfrm>
          <a:prstGeom prst="rect">
            <a:avLst/>
          </a:prstGeom>
          <a:ln w="0">
            <a:noFill/>
          </a:ln>
        </p:spPr>
      </p:pic>
      <p:pic>
        <p:nvPicPr>
          <p:cNvPr id="420" name="SY01265_" descr=""/>
          <p:cNvPicPr/>
          <p:nvPr/>
        </p:nvPicPr>
        <p:blipFill>
          <a:blip r:embed="rId3"/>
          <a:stretch/>
        </p:blipFill>
        <p:spPr>
          <a:xfrm>
            <a:off x="8388360" y="2133720"/>
            <a:ext cx="755640" cy="1600200"/>
          </a:xfrm>
          <a:prstGeom prst="rect">
            <a:avLst/>
          </a:prstGeom>
          <a:ln w="0">
            <a:noFill/>
          </a:ln>
        </p:spPr>
      </p:pic>
      <p:pic>
        <p:nvPicPr>
          <p:cNvPr id="421" name="dd01627_" descr=""/>
          <p:cNvPicPr/>
          <p:nvPr/>
        </p:nvPicPr>
        <p:blipFill>
          <a:blip r:embed="rId4"/>
          <a:stretch/>
        </p:blipFill>
        <p:spPr>
          <a:xfrm>
            <a:off x="7543800" y="2133720"/>
            <a:ext cx="4525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95280" y="3808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ocessing Inform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Q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1066680" y="1981080"/>
            <a:ext cx="8077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1066680" y="2209680"/>
            <a:ext cx="4496040" cy="42260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5791320" y="2514600"/>
            <a:ext cx="2971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would you arrange six matches to form four equilateral triangles?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295280" y="3808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ocessing Inform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Q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1066680" y="1981080"/>
            <a:ext cx="8077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1066680" y="2209680"/>
            <a:ext cx="5181840" cy="46483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6400800" y="2971800"/>
            <a:ext cx="2743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ution to the matchstick prob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295280" y="3808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ocessing Inform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Q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1066680" y="1981080"/>
            <a:ext cx="8077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990720" y="1981080"/>
            <a:ext cx="487656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buClr>
                <a:srgbClr val="ff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lexibility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ability to overcome rigidity associated with “set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combinatio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ntally rearranging parts of a problem to find a novel 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ff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sigh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sudden solution to a problem using recombination of the pa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2" name="dd01603_" descr=""/>
          <p:cNvPicPr/>
          <p:nvPr/>
        </p:nvPicPr>
        <p:blipFill>
          <a:blip r:embed="rId2"/>
          <a:stretch/>
        </p:blipFill>
        <p:spPr>
          <a:xfrm>
            <a:off x="7010280" y="2286000"/>
            <a:ext cx="684360" cy="1752480"/>
          </a:xfrm>
          <a:prstGeom prst="rect">
            <a:avLst/>
          </a:prstGeom>
          <a:ln w="0">
            <a:noFill/>
          </a:ln>
        </p:spPr>
      </p:pic>
      <p:pic>
        <p:nvPicPr>
          <p:cNvPr id="443" name="bd05199_" descr=""/>
          <p:cNvPicPr/>
          <p:nvPr/>
        </p:nvPicPr>
        <p:blipFill>
          <a:blip r:embed="rId3"/>
          <a:stretch/>
        </p:blipFill>
        <p:spPr>
          <a:xfrm>
            <a:off x="5867280" y="4267080"/>
            <a:ext cx="3046680" cy="2590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6477120" cy="11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mory and Thou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“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formation Processing”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3Q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219320" y="2209680"/>
            <a:ext cx="7696080" cy="42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sory inputs are managed in two ways; </a:t>
            </a:r>
            <a:r>
              <a:rPr b="0" i="1" lang="en-US" sz="3200" spc="-1" strike="noStrike">
                <a:solidFill>
                  <a:srgbClr val="001932"/>
                </a:solidFill>
                <a:latin typeface="Times New Roman"/>
              </a:rPr>
              <a:t>Selective Attention</a:t>
            </a:r>
            <a:r>
              <a:rPr b="0" lang="en-US" sz="3200" spc="-1" strike="noStrike">
                <a:solidFill>
                  <a:srgbClr val="001932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1932"/>
                </a:solidFill>
                <a:latin typeface="Times New Roman"/>
              </a:rPr>
              <a:t>Feature Ext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lective Attention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bility to pick and choose among available sensory inpu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- Normally select items that satisfy basic needs, are strange/novel, or items of inter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eature Extraction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Locate/focus on special characteristics of incoming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920" y="302400"/>
            <a:ext cx="6324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mory and Thought</a:t>
            </a:r>
            <a:br>
              <a:rPr sz="3200"/>
            </a:b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“Information Processing”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3Q1)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19320" y="1936800"/>
            <a:ext cx="7696080" cy="4921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920" y="302400"/>
            <a:ext cx="6324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mory and Thought</a:t>
            </a:r>
            <a:br>
              <a:rPr sz="3200"/>
            </a:b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“Information Processing”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3Q1)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143000" y="220968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1b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Three-Stage Memory Theory</a:t>
            </a:r>
            <a:r>
              <a:rPr b="0" i="1" lang="en-US" sz="2800" spc="-1" strike="noStrike">
                <a:solidFill>
                  <a:srgbClr val="6600cc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1b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sory/Short Term/Long-Term Mem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066680" y="4267080"/>
            <a:ext cx="8076960" cy="2171520"/>
            <a:chOff x="1066680" y="4267080"/>
            <a:chExt cx="8076960" cy="2171520"/>
          </a:xfrm>
        </p:grpSpPr>
        <p:sp>
          <p:nvSpPr>
            <p:cNvPr id="160" name=""/>
            <p:cNvSpPr/>
            <p:nvPr/>
          </p:nvSpPr>
          <p:spPr>
            <a:xfrm>
              <a:off x="1066680" y="5349240"/>
              <a:ext cx="1193760" cy="99180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ven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43960" y="5349240"/>
              <a:ext cx="1193760" cy="99180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nso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31840" y="5349240"/>
              <a:ext cx="1194120" cy="99180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hort-te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949520" y="5349240"/>
              <a:ext cx="1194120" cy="9918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ong-te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60440" y="5529240"/>
              <a:ext cx="983520" cy="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60440" y="5799960"/>
              <a:ext cx="983520" cy="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60440" y="6070320"/>
              <a:ext cx="983520" cy="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37720" y="5799960"/>
              <a:ext cx="1193760" cy="0"/>
            </a:xfrm>
            <a:prstGeom prst="line">
              <a:avLst/>
            </a:prstGeom>
            <a:ln w="38160">
              <a:solidFill>
                <a:srgbClr val="33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825960" y="5619600"/>
              <a:ext cx="1123560" cy="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6825600" y="6070320"/>
              <a:ext cx="1123560" cy="0"/>
            </a:xfrm>
            <a:prstGeom prst="line">
              <a:avLst/>
            </a:prstGeom>
            <a:ln w="3816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66680" y="5349240"/>
              <a:ext cx="1193760" cy="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949520" y="5349240"/>
              <a:ext cx="1194120" cy="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631840" y="5349240"/>
              <a:ext cx="1194120" cy="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43960" y="5349240"/>
              <a:ext cx="1193760" cy="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09800" y="4539240"/>
              <a:ext cx="170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nsory inp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82000" y="4988160"/>
              <a:ext cx="0" cy="360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04760" y="4267080"/>
              <a:ext cx="258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ttention to importa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or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novel inform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99680" y="4988160"/>
              <a:ext cx="0" cy="541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08640" y="6070320"/>
              <a:ext cx="122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ncod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20200" y="5183640"/>
              <a:ext cx="122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ncod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21640" y="6070320"/>
              <a:ext cx="129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triev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7920" y="302400"/>
            <a:ext cx="6324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mory and Thought</a:t>
            </a:r>
            <a:br>
              <a:rPr sz="3200"/>
            </a:b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“Information Processing”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3Q1)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2133720"/>
            <a:ext cx="5181480" cy="45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1b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Sensory Memo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mmediate, initial recording of sensory information in the memory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pturing the vast sensory input from external stimu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fast its seemless (think movi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bd05481_" descr=""/>
          <p:cNvPicPr/>
          <p:nvPr/>
        </p:nvPicPr>
        <p:blipFill>
          <a:blip r:embed="rId2"/>
          <a:stretch/>
        </p:blipFill>
        <p:spPr>
          <a:xfrm>
            <a:off x="5867280" y="2666880"/>
            <a:ext cx="3276720" cy="25671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47920" y="302400"/>
            <a:ext cx="6324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mory and Thought</a:t>
            </a:r>
            <a:br>
              <a:rPr sz="3200"/>
            </a:b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“Information Processing”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3Q1)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066680" y="1981080"/>
            <a:ext cx="8382240" cy="45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Short-Term Mem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1b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ory that holds a few items briefly (15-20 sec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1b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ok up a phone number, then quickly dial before forget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1b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‘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hun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’ (lump) information to remember more than 7 unrelated items at o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Working Mem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1b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hind-the-scene processing of briefly stored information for immediate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47920" y="302400"/>
            <a:ext cx="6324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mory and Thought</a:t>
            </a:r>
            <a:br>
              <a:rPr sz="3200"/>
            </a:b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“Information Processing”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3Q1)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143000" y="2209680"/>
            <a:ext cx="777240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19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Long Term Memory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toring information longer term for future u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t reconstruct stored information from countless facts, experiences and sens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etition and rehearsal that is spaced out in time results in longer term memor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47920" y="302400"/>
            <a:ext cx="6324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mory and Thought</a:t>
            </a:r>
            <a:br>
              <a:rPr sz="3200"/>
            </a:b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“Information Processing”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3Q1)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60020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3314880" y="2124000"/>
            <a:ext cx="5826960" cy="4735080"/>
            <a:chOff x="3314880" y="2124000"/>
            <a:chExt cx="5826960" cy="4735080"/>
          </a:xfrm>
        </p:grpSpPr>
        <p:sp>
          <p:nvSpPr>
            <p:cNvPr id="202" name=""/>
            <p:cNvSpPr/>
            <p:nvPr/>
          </p:nvSpPr>
          <p:spPr>
            <a:xfrm>
              <a:off x="4563000" y="2601720"/>
              <a:ext cx="4312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63000" y="5467320"/>
              <a:ext cx="4312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563000" y="3079440"/>
              <a:ext cx="4312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63000" y="3556800"/>
              <a:ext cx="4312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563000" y="4034520"/>
              <a:ext cx="4312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563000" y="4512240"/>
              <a:ext cx="4312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563000" y="4989600"/>
              <a:ext cx="4312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44120" y="2192040"/>
              <a:ext cx="0" cy="3684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24880" y="2192040"/>
              <a:ext cx="0" cy="3684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62520" y="2192040"/>
              <a:ext cx="0" cy="3684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00160" y="2192040"/>
              <a:ext cx="0" cy="3684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137800" y="2192040"/>
              <a:ext cx="0" cy="3684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63000" y="2192040"/>
              <a:ext cx="0" cy="334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63000" y="5877000"/>
              <a:ext cx="4312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8875440" y="2191680"/>
              <a:ext cx="0" cy="3684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4562640" y="2192040"/>
              <a:ext cx="4312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63000" y="5535720"/>
              <a:ext cx="56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4449600" y="5535720"/>
              <a:ext cx="169920" cy="272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449600" y="5808600"/>
              <a:ext cx="113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63000" y="5808600"/>
              <a:ext cx="0" cy="68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39000" y="24634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39000" y="33638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39000" y="43743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32240" y="5262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32240" y="5753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48520" y="587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79240" y="58755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52080" y="58755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88640" y="58755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26280" y="58755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970760" y="58755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708040" y="58755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6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314880" y="2124000"/>
              <a:ext cx="964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o relear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st on day 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88680" y="6216480"/>
              <a:ext cx="3512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umber of repetitions  on day 1 of learn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63000" y="2601720"/>
              <a:ext cx="680760" cy="477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44120" y="3079440"/>
              <a:ext cx="680760" cy="136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924880" y="3215520"/>
              <a:ext cx="1474920" cy="95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00160" y="4170960"/>
              <a:ext cx="737640" cy="341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37800" y="4512240"/>
              <a:ext cx="737640" cy="54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990720" y="1981080"/>
            <a:ext cx="2743200" cy="49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Amount you remember depends directly on time spent lear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Over-learning</a:t>
            </a: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terial we have already learned increases ret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Spaced Stud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beats cram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9:48:30Z</dcterms:created>
  <dc:creator>Martel</dc:creator>
  <dc:description/>
  <dc:language>en-US</dc:language>
  <cp:lastModifiedBy>Brent J. Freccia</cp:lastModifiedBy>
  <dcterms:modified xsi:type="dcterms:W3CDTF">2006-10-30T19:45:05Z</dcterms:modified>
  <cp:revision>114</cp:revision>
  <dc:subject/>
  <dc:title>No Slide Title</dc:title>
</cp:coreProperties>
</file>